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76E6-5ABC-4A7B-95E6-EA2B5291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08AF-FFAC-489F-956A-5164B2D9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9220-4249-445B-A8FE-AF96365C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57EE-062A-47EE-BB69-CBE67E10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A0EA-3B92-4C1C-8423-AFA04919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497B-B1B5-47F3-A4BA-8BE9F3AE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5C01-E7EA-49F3-BFA6-F2EF4629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09E1-04C9-4BA5-AEEC-A36C1656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2839-5541-4A25-92DB-4AFDDE28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C9DF-AF99-4513-B596-0050EAE4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6413-6DD0-4671-A29C-1FACD052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FA73-A672-4657-BFE7-0D9C14C6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4305-527E-4AEA-868A-1E946C549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\\Iml-files-1\Data1\PROJECTS\Agricultural Education\Online Curriculum\Agricultural Science I\Introduction to Dairy Production\Originals\jpgs\Fig-4.4.jpg"/>
          <p:cNvPicPr/>
          <p:nvPr/>
        </p:nvPicPr>
        <p:blipFill>
          <a:blip r:embed="rId1"/>
          <a:stretch/>
        </p:blipFill>
        <p:spPr>
          <a:xfrm>
            <a:off x="617400" y="1279440"/>
            <a:ext cx="8018640" cy="496404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0" y="655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ctation Curve of the Dairy C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12:33Z</dcterms:created>
  <dc:creator>loweryb</dc:creator>
  <dc:description/>
  <dc:language>en-US</dc:language>
  <cp:lastModifiedBy>LevsenJ</cp:lastModifiedBy>
  <dcterms:modified xsi:type="dcterms:W3CDTF">2007-09-06T14:41:34Z</dcterms:modified>
  <cp:revision>3</cp:revision>
  <dc:subject/>
  <dc:title>Slide 1</dc:title>
</cp:coreProperties>
</file>